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FF6-6328-4758-9D52-662E3C7C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318-D047-450F-A5D9-19DE799B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716-71D2-4C3A-8714-0FB36C52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052-6581-4E1D-9614-8197A654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0E7-94CA-4B05-9FEA-599EFA52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069-430B-4715-A3FE-701C7D29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321-2192-4140-B942-6DB3D6CB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6B6-F719-4650-81C7-63AF6463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166-5353-47CC-A813-F9B4586E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30E-7DD1-436D-A160-BD443F33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B53-F1C2-4D3A-A9BD-709E1D95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85D-BA26-4387-A72F-55A507B6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B50E-C39B-49B4-97AC-538F8B8C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7772400" cy="40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205740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2767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ordered pair in a system that makes all the equations true i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5181480" cy="39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5181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Systems by Grap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167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59436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raph each equation and find the point of inter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38480" y="1066680"/>
            <a:ext cx="4724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Systems Using Sub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8288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Sub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697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9920" y="914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.  Number th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83808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1880" y="13716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. Solve one equ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the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22096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III. Substitute the answer from step II into the other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06960" y="327672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IV. Solve for the rem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038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V. Plug the answer from step IV  into either of the original equations to find the other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334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. Write the answer as an ordered pair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6172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VII. Check your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942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924680" y="19810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9:56:11Z</dcterms:created>
  <dc:creator>grahams</dc:creator>
  <dc:description/>
  <dc:language>en-US</dc:language>
  <cp:lastModifiedBy>grahams</cp:lastModifiedBy>
  <dcterms:modified xsi:type="dcterms:W3CDTF">2013-02-19T13:21:39Z</dcterms:modified>
  <cp:revision>2</cp:revision>
  <dc:subject/>
  <dc:title>Lesson 7.1 Solving Systems by Graphing</dc:title>
</cp:coreProperties>
</file>